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58D9-8F27-4E3C-B061-52B4B886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3A6E-2171-4967-972B-82B4CA4F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5F1-2EFF-46D5-BE6C-BA0C3436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9C6-EF54-4646-A9E5-60C9CD19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5F0-718A-4869-8B5E-22F22B73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9BD-26A7-468E-BEF8-F23B3ACA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1EC-2FB0-4E3D-93E6-468AFD7D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00F-981E-4160-A30F-4A32461F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5B0-2821-4137-8FDE-99B81D37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305-38C2-45C2-84B3-3C90DB44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0F94-0458-4B0B-8161-8C359127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21EC-106B-415F-A788-AE186918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09588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17220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535E-EBC4-47A9-9037-29DD672909E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48720" y="6172200"/>
            <a:ext cx="113004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21932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37840" y="5334120"/>
            <a:ext cx="241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itle,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9 Pearson Education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886200" y="6286680"/>
            <a:ext cx="113040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2542-1F10-4CD3-B570-B1C727ADF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soft.com/lists/listref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2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electing and Defining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 Research Topi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urier New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Select and refine an educational topi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to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Distinguish good research topics fro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less appropriate 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Distinguish between topic stat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for quantitative studies and those for qualitative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rmulating &amp; Stating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hypothesis is a prediction of the researchers’ expected findi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studies contain more than one hypothe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collect data to either support     or not support a hypothe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ten hypotheses are included in      research plans and repor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rmulating &amp; Stating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potheses are central to most      quantitative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potheses in quantitative studies are formulated before conducting th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spects of a quantitative study are affected by the hypothe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potheses are derived from theory or knowledge gained through literature     revie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uidelines for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ood hypothesis is based upon        sound reasoning and is consistent          with existing theory or is derived from previous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ood hypothesis provides an    explanation for the predicted outco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ood hypothesis clearly operationally defines variables and states expected relations among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ood hypothesis is testable within a reasonable time fr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ctive Hypothesis:                            A generalization based upon observ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A researcher observes that students          are motivated by praise; this observation becomes the basis for a hypothes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ductive Hypothesis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d from theory and provides evidence that supports, expands, or even contradict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Based upon processing theories, a researcher forms the hypothesis that students will attend to moving objects in an educational computer gam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directional Hypothesi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 that a relationship or difference exists among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here are differences between male          and female students in spatial abi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 Hypothesi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 the expected direction of the relationship or difference among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le students will outperform female students on a test of spatial abilit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ll Hypothesi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 that there is no significant relationship           or difference among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ll hypotheses are stated when there          is little existing research or theoretical      support for a hypothe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ll hypotheses are also more        conservative than directional hypotheses      in statistical tes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studies are not based in the null hypothe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here are no significant differences in    spatial ability between male and female     studen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ating the Hypothe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good hypothes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learly and concisely st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 the relation or difference among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variables in measurable ter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ating the Hypothe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for hypothe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=The particip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The treatment, the causal o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variable (I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=The study outcome, the effect o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variable (D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2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electing and Defining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 Research Topi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urier New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Identify or create good research hypotheses for quantitative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qualitative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Explain the differences between null, directional, and non-directional  hypotheses and discuss the use of a directional hypothesis in a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actice Examples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P, X, &amp; Y: The purpose of this study is to examine benefits in ninth         grade students’ achievement based upon attendance at a Saturday tutoring      progr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=Ninth grade stud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Saturday program attendance or nonatten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=Achie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actice Examples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P, X, &amp; Y: The purpose of this study is to examine differences in social   skills between those middle school      children who are involved in extra-    curricular activities and those who are not involved in extra-curricular activ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=Middle school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Extra-curricular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Social ski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esting the Hypothe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ypothesis is used to guide the research     stud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earcher conducts the study and then   analyzes the data to determine if the hypothesis      is supp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potheses are not proven—they are supported      or not supp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able contributions to the literature can still       be made if a hypothesis is not support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pothesis testing contributes by expanding, refining, and revising the literature bas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rmulating &amp; Stating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ative stud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qualitative researcher does not     state formal hypotheses before    conducting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may develop guiding hypotheses for the proposed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61704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rmulating &amp; Stating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ative stud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often generate  new hypotheses during the course of    their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may generate research questions from their guiding hypothe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Research Topi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ng and defining a research topi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first step in applying the scientific meth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earch process is not linear and is often a process of trial and err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earch topic provides focus and struc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earch topic should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of interest to you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ources of Research Topic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experien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ies that can be replic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ication studies use a new samp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test a hypothe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mailing l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lsoft.com/lists/listref.ht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brary sear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owing a Topi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topics need to be narrow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ics that are too bro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larger literature review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icate organization of literature revie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d to unfocused studies that are difficult to    carry out and interpr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quantitative topics at the start of      the research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often narrow         their topic after they are in the fie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racteristics of a Good Topi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opic is interes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opic is research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opic has theoretical or practical import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opic is ethic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opic is manageable for you giv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current skills, resources, and time avail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ating the Research Topi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tative research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opic statement describes the                 variables of interest, relations among              those variables, and aspects of the  sam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The purpose of the study is to investigate             the psychometric properties of a new measure of    spatial ability for middle school child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The topic to be investigated in this study is    parents’ beliefs about homework for primary             grade child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ating the Research Topi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 topics are often      stated in more general language at the   outset of a study because the focus of        the study will likely emerge after time in      the fiel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The purpose of this study is to describe the experiences of elementary students who have previously been retaine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This qualitative study explores the feelings of new teachers in large urban distri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lacement of the Topic Statem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opic statement is used in research plans and in research repor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statements are accompanied by background of the study and justification for th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otential relevance of the topic       should be stated. Thinking about    significance of the topic often assists researchers in formulating hypothe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5T20:06:14Z</dcterms:modified>
  <cp:revision>38</cp:revision>
  <dc:subject/>
  <dc:title>AutoCAD Architecture 2008: Part I: Getting Started</dc:title>
</cp:coreProperties>
</file>